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9365-E388-4664-B7E1-25045B94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8E8E-3CEA-4A97-8E03-A0EA09AD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AA1A-8260-4082-9CEC-B9297BCA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72AC-E3E4-43A9-846F-FCAFAE08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2DC-DAC7-4C10-B6A4-30543C54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B55D-3421-44C4-B7EE-74EE94B3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8826-9929-4EC6-9A17-60A556DF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75B-B6AD-42A2-B838-11BB7441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06F8-97A2-45AA-87EA-639970DB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CA81-C9D4-4ABD-A623-D54CA8C6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CC62-CDA9-4605-836C-39B08DA9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DD9E-70DF-4FEA-9601-24444ACD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629A9-7A20-4680-8638-38F3981B44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Museo Sans 300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119160" y="176040"/>
            <a:ext cx="4417920" cy="7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3" descr="A black background with red text&#10;&#10;Description automatically generated"/>
          <p:cNvPicPr/>
          <p:nvPr/>
        </p:nvPicPr>
        <p:blipFill>
          <a:blip r:embed="rId1"/>
          <a:stretch/>
        </p:blipFill>
        <p:spPr>
          <a:xfrm>
            <a:off x="285840" y="223920"/>
            <a:ext cx="40845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84564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Museo Slab 700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216360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pic>
        <p:nvPicPr>
          <p:cNvPr id="313" name="Picture 1" descr=""/>
          <p:cNvPicPr/>
          <p:nvPr/>
        </p:nvPicPr>
        <p:blipFill>
          <a:blip r:embed="rId1"/>
          <a:stretch/>
        </p:blipFill>
        <p:spPr>
          <a:xfrm>
            <a:off x="0" y="4078440"/>
            <a:ext cx="4491000" cy="946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A black and white logo&#10;&#10;Description automatically generated"/>
          <p:cNvPicPr/>
          <p:nvPr/>
        </p:nvPicPr>
        <p:blipFill>
          <a:blip r:embed="rId2"/>
          <a:stretch/>
        </p:blipFill>
        <p:spPr>
          <a:xfrm>
            <a:off x="320760" y="4363920"/>
            <a:ext cx="370512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5T16:55:05Z</dcterms:created>
  <dc:creator>Mike DeSocio</dc:creator>
  <dc:description/>
  <dc:language>en-US</dc:language>
  <cp:lastModifiedBy>Benjamin La</cp:lastModifiedBy>
  <dcterms:modified xsi:type="dcterms:W3CDTF">2024-10-19T22:57:31Z</dcterms:modified>
  <cp:revision>2</cp:revision>
  <dc:subject/>
  <dc:title>PowerPoint Presentation</dc:title>
</cp:coreProperties>
</file>