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BBEF2-E47E-4F23-98C5-9BB7B4DB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3B303-8B75-4C8D-AA26-0F5AC63F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99B9-DBAB-40D0-8314-265DF573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DA05-44AE-45BD-AE51-A5DB4F5C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52CB9-C065-4C09-8A05-03B5C41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8D8AE-D643-45A5-8CAB-1A5428C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A54E-BAE5-48CC-AB6D-C463B7D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9A36-72A2-4AEE-9E03-7CEED03F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963C-FC19-4D02-A87B-C2E5BCC6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6C46-4AE4-4172-97FE-64CEA35A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C7FB-5349-47D6-B38C-B0DBB9E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13EE-AA58-49A0-9A9D-582D0131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CCC9-0F35-4DAB-AACA-E9DF7F1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AC394-0EB0-48EC-AE62-6B43BEC4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80BC3-5EEE-4F2B-9DAA-E301AFD1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0A24C-03A9-4063-BACA-26DFBA6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0EC4-88DF-4B02-A8B9-02D208E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14C88-F39F-47BD-AD03-82DB4FD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CF7E-3663-4ED7-A380-288C92A8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9985-2BF2-4459-8AE4-3DCB0869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C3B3-AEF3-43DE-85EF-132E20A7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D375-151C-48DD-892E-C3937787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38AD0-BF3E-4B1A-94BF-78F792F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41CB-E41A-4F14-8364-B9B2194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7619B-3D8B-44B8-8AF9-D7AB588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8856-286C-4EC5-953B-A3A065C1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2360-092C-4BD1-BCD4-71BF72BC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C1821-429D-47B2-A1C4-6BB4DB3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C007C-C3BB-4F06-8539-27F8D5A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3C86C-BEF4-4135-A95E-640DE17B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D9F81-42E9-45D9-8457-B90D362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679D-423F-4166-8D17-87BC140F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B29A-DB75-4413-939C-C9AB4BE1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743-FDCA-411A-883A-DDF822A1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0B7-92A1-41F8-A378-1478C251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798-F7CE-4EB3-9CE7-60FAD9DA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433-DBDB-48B4-9C6D-3037DA9D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05D-CF0C-4BEC-89BF-80D27FC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34C-455E-4DBC-9B6B-EB9A9739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8B3-8AC4-48A8-A075-DD85AC57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DE2-AE95-4F35-93A4-E1F704D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379-3F7A-4210-A265-A21E50C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41C-B2F4-402C-9708-C116F448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184-EE01-43DB-A8A5-42270764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920-D17C-42E8-A556-A5CF4A0D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53AA-224E-43B2-91A6-451A4CB9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C4E1-4C00-4BF6-9502-99C3D96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15E1-B638-402B-AE18-AF89816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9932-C894-468F-9FC1-A619EAC0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B3B-0FFC-4376-8DD2-08417E88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0E0-021C-4745-9DF3-EA1BE21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A256-3813-412C-ACD3-4701D57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4C94-CFB4-444C-86EB-829A75E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347-70F5-4ABC-AF0E-936D72A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FC21-BCAF-4D06-8BF1-5C675FA8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B76-59AC-41CD-ABF7-C0E55F9E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125-B745-4C10-AEFD-B63D04D6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DD72-75E6-4D6C-A1DF-7EB4821A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470D-9821-47C3-BE46-81A1DDEB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5781-3563-4CEF-B1E6-ABEE063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7617-FB7F-4A8D-93A1-FC2BD51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2F8E-B019-4CA2-9CAD-A109AD0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A960-DF2D-4739-B0E4-B48F8A82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2257-E72D-42C3-93CA-6B9FD79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3BC6-042D-4B5E-ADFA-4DF2D4F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E13F-0726-49DC-A6CB-5908EF52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77D7-114A-44D0-A0F4-6661F3A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CEC9-BB36-483F-AF4D-32A67745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B25B-4DA9-455D-ABCF-F5EC7F1C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2FBC-DAA0-46D9-822C-2AFED2AF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BCB4-21EF-496E-ACCA-35BA8E35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D4A5-FCFD-4662-85D0-D081D9F0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343D-BE90-432D-B63D-C899F14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4386-A88F-4C5C-9A23-8C87744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FBFD-645B-42FF-8FCB-B01CFCF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AC08-79A1-4936-BBCB-5582F97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B448-BF96-46E6-AD92-5B93708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22BB-542C-4F50-8F07-2F36BD3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0393-8F7C-4239-ADAA-5D283496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A96A-1338-445F-B768-F0A01F10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1615-F915-4E7F-B1BF-CA28F530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8B39-3D39-487B-A766-B90FDEA8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9FB42-FEDD-4103-9DBF-FA219B1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13FA-3B60-4817-A70A-1CCE63A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58BE-101B-40A7-B258-D51396CF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4753-A7E3-4256-AD69-3AA34F85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FACAA-0BA4-44BD-8A4A-30299E4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3243D-8D49-4B32-8EB6-75029EF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D4F8-7BC8-47D7-A79E-72A3EEB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D4E90-6AD1-4B4E-B680-6B1B9CE0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46DA-1FCA-41B5-93B4-E65508CD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4DDB-58A4-42C8-95A9-16714FE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35A9-A76C-426A-AC34-403FDC8E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7A6D-C389-4DFC-9CB3-9BC65B3F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FC1B-85B9-45DB-8DE4-2F6E5011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82B1-3C73-41C6-839A-ADA93F3E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D5505-1D31-44E3-B630-7CFFA33E47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9814A-CEE1-4033-84CB-C3C2FB064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0A429-C9C4-4A07-A1A9-70C2CA87AD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DACE3-4768-4933-8D10-4736381C3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88D6D-C34B-440A-A045-387A033A2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7472B-E5F8-493D-9EB5-9CBAC9489D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96CF9-FC2E-4846-A99E-1CDD88CF3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5B6BB-3097-450C-B490-5C523AD57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lab 300"/>
              <a:ea typeface="Museo Slab 300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285840" y="322200"/>
            <a:ext cx="441792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2" descr="A black background with red text&#10;&#10;Description automatically generated"/>
          <p:cNvPicPr/>
          <p:nvPr/>
        </p:nvPicPr>
        <p:blipFill>
          <a:blip r:embed="rId1"/>
          <a:stretch/>
        </p:blipFill>
        <p:spPr>
          <a:xfrm>
            <a:off x="452520" y="369720"/>
            <a:ext cx="4084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13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2887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lab 300"/>
              <a:ea typeface="Museo Slab 300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139680" y="5586480"/>
            <a:ext cx="4491000" cy="1195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A black and white logo&#10;&#10;Description automatically generated"/>
          <p:cNvPicPr/>
          <p:nvPr/>
        </p:nvPicPr>
        <p:blipFill>
          <a:blip r:embed="rId2"/>
          <a:stretch/>
        </p:blipFill>
        <p:spPr>
          <a:xfrm>
            <a:off x="304920" y="5851440"/>
            <a:ext cx="43257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42:33Z</dcterms:created>
  <dc:creator>Mike DeSocio</dc:creator>
  <dc:description/>
  <dc:language>en-US</dc:language>
  <cp:lastModifiedBy>Benjamin La</cp:lastModifiedBy>
  <dcterms:modified xsi:type="dcterms:W3CDTF">2024-10-19T22:54:02Z</dcterms:modified>
  <cp:revision>2</cp:revision>
  <dc:subject/>
  <dc:title>PowerPoint Presentation</dc:title>
</cp:coreProperties>
</file>